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6F0E-9D5B-4314-8F36-A19FF328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7E66-0EC4-4071-ABF1-1172BDDD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1B22-5607-43A5-8D62-6BF3E8D69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975D-4EFA-429B-9E77-C2D2452B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1FE6-5FA2-43BA-AE9C-EB7F6C316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F5C4-22F6-4144-B4FD-D15FED6A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AA98-A165-4780-9476-03F6FFFB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BBA7-ED1B-42E0-8DED-70565128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E870-919B-416A-B642-B35C6359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194B-BC07-484E-8EDA-530D64A8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D66E-3539-470C-A68D-3AE7F200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72D7-158B-4E2A-8120-9C91F6C6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92F2-9BB0-4CF8-99DE-B47B2CF2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8CB6-99E4-4D4A-9F3C-6DCD86DE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57E1-682A-4063-818B-DB2D193E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49A1-1C4D-4705-897D-4E8B02772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93EB-884F-4B2E-9634-2D596928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68B2-8BDC-42AB-B4E0-40D61B92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23F0-15AE-4855-B458-24B8E9FC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7BEF-19C8-488E-852D-5C19669E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58B3-A82F-430D-9EA3-BFE79D6F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C459-AE7C-46A6-A9D2-7229574F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9206-CC42-4305-8705-0C882C8C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EE3D-D48A-45A0-B96E-F35DDCCC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94E8-EBD0-466F-9A73-B84DC250D39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F395-BE26-4936-8F8E-2B8254E90A8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Jar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y Person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earning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rofi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y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Learning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fi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cc00"/>
                </a:solidFill>
                <a:latin typeface="Arial Black"/>
              </a:rPr>
              <a:t>My learning style is Tactile/kinethetic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cc00"/>
                </a:solidFill>
                <a:latin typeface="Arial Black"/>
              </a:rPr>
              <a:t>This means that I learn best by doing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cc00"/>
                </a:solidFill>
                <a:latin typeface="Arial Black"/>
              </a:rPr>
              <a:t>My learning technique is Abstract Sequential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cc00"/>
                </a:solidFill>
                <a:latin typeface="Arial Black"/>
              </a:rPr>
              <a:t>That means that I am imaginative, orderly, logical, and analytical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cc00"/>
                </a:solidFill>
                <a:latin typeface="Arial Black"/>
              </a:rPr>
              <a:t>My intelligence Type Is Physical Awarnes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cc00"/>
                </a:solidFill>
                <a:latin typeface="Arial Black"/>
              </a:rPr>
              <a:t>That means that I am very well coordinated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0958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age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cc00"/>
                </a:solidFill>
                <a:latin typeface="Arial Black"/>
              </a:rPr>
              <a:t>I found out that the left hemisphere of my brain is  the smarter part of my brai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cc00"/>
                </a:solidFill>
                <a:latin typeface="Arial Black"/>
              </a:rPr>
              <a:t>and the right hemisphere of my brain is kinda the dumber part of my brai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cc00"/>
                </a:solidFill>
                <a:latin typeface="Arial Black"/>
              </a:rPr>
              <a:t>It’s important to learn how your brain works because  if you have hard homework you can use i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8:05:56Z</dcterms:created>
  <dc:creator>student</dc:creator>
  <dc:description/>
  <dc:language>en-US</dc:language>
  <cp:lastModifiedBy>student</cp:lastModifiedBy>
  <dcterms:modified xsi:type="dcterms:W3CDTF">2010-10-27T17:50:08Z</dcterms:modified>
  <cp:revision>9</cp:revision>
  <dc:subject/>
  <dc:title>Jaron</dc:title>
</cp:coreProperties>
</file>